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0B3-1727-431A-BD70-52FF93DD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8FA-AFEE-455B-9B88-6EE07D50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B8BE-1825-48E2-B1CE-41E2C5E9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277-1310-4502-AE8A-9390773D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27E-1842-4250-8123-EDF60F7A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C15-7A8F-48F9-901E-4B627BCA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273D-E4F3-4DFE-9324-365CD721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FA4F-4EFC-49DA-B5C2-F2B73306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8EE-39C9-4F63-9164-6F96D8FC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E95E-54A9-4005-A4C7-2922FB21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1EC-4F54-480B-9CF2-67514FE4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C0A-CCC3-4D1A-9378-CE173836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A004-4262-4F9A-88BD-971838C9B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76360" y="1349280"/>
          <a:ext cx="4405320" cy="4160880"/>
        </p:xfrm>
        <a:graphic>
          <a:graphicData uri="http://schemas.openxmlformats.org/drawingml/2006/table">
            <a:tbl>
              <a:tblPr/>
              <a:tblGrid>
                <a:gridCol w="1459080"/>
                <a:gridCol w="1492200"/>
                <a:gridCol w="1454040"/>
              </a:tblGrid>
              <a:tr h="13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7559640" y="1844640"/>
            <a:ext cx="720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6058080"/>
            <a:ext cx="900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96360" y="4545000"/>
            <a:ext cx="720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9640" y="3168720"/>
            <a:ext cx="900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488360" y="297000"/>
            <a:ext cx="72072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6000" y="6058080"/>
            <a:ext cx="720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03640" y="6058080"/>
            <a:ext cx="936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32720" y="5805360"/>
            <a:ext cx="72072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877080" y="800280"/>
            <a:ext cx="61128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948360" y="2097000"/>
            <a:ext cx="611280" cy="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6877080" y="5552640"/>
            <a:ext cx="71928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911640" y="486900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948000" y="3429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059280" y="5697360"/>
            <a:ext cx="0" cy="36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572000" y="5697360"/>
            <a:ext cx="0" cy="36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119640" y="5697360"/>
            <a:ext cx="0" cy="36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2565360"/>
            <a:ext cx="111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162864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301608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4292640"/>
            <a:ext cx="8283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19640" y="429264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35280" y="432900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88000" y="159228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9640" y="162864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3016080"/>
            <a:ext cx="8283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35280" y="301608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593720" y="1197000"/>
            <a:ext cx="3021120" cy="3016080"/>
            <a:chOff x="1593720" y="1197000"/>
            <a:chExt cx="3021120" cy="3016080"/>
          </a:xfrm>
        </p:grpSpPr>
        <p:sp>
          <p:nvSpPr>
            <p:cNvPr id="69" name=""/>
            <p:cNvSpPr/>
            <p:nvPr/>
          </p:nvSpPr>
          <p:spPr>
            <a:xfrm>
              <a:off x="4478400" y="263700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24000" y="2610000"/>
              <a:ext cx="13680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1640" y="2637000"/>
              <a:ext cx="13680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93720" y="406080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33720" y="407664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78400" y="407664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1197000"/>
              <a:ext cx="13680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78400" y="119700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33720" y="119700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663560" y="1257480"/>
            <a:ext cx="4330800" cy="12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676520" y="1263600"/>
            <a:ext cx="4317840" cy="4330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676520" y="1282320"/>
            <a:ext cx="0" cy="4267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1282680"/>
            <a:ext cx="3632040" cy="3568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21:24:17Z</dcterms:created>
  <dc:creator>Trifon</dc:creator>
  <dc:description/>
  <dc:language>en-US</dc:language>
  <cp:lastModifiedBy>Trifon</cp:lastModifiedBy>
  <dcterms:modified xsi:type="dcterms:W3CDTF">2003-10-15T21:52:38Z</dcterms:modified>
  <cp:revision>2</cp:revision>
  <dc:subject/>
  <dc:title>Slide 1</dc:title>
</cp:coreProperties>
</file>